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4F3-A99B-4BB8-83A9-BC1E26E3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F04-425A-4701-A68E-0CB37D46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952-589D-46C3-95EF-D438AA28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2DD-9FAF-43D4-B185-40667EDC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DA9-378C-4173-A86D-953B387C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349-5551-4608-8471-02B598C3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CA8-55A7-4D65-A2A5-953643C0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B89-F4A3-4953-8DC7-417ADA97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DA0-EA9A-46EB-B8F7-A7B64945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422-2FDF-4730-A392-80235DE8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62F-992A-4F89-9470-7FF872C6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B46-6476-4E75-9B64-0FAC822B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1375-48AA-43FC-A4CC-8E66D1D8B0D5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b963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85b9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b963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85b963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19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2e4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b96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5b9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1ydt.cn/" TargetMode="External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ydt.cn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7169"/>
          <p:cNvSpPr/>
          <p:nvPr/>
        </p:nvSpPr>
        <p:spPr>
          <a:xfrm>
            <a:off x="34920" y="861120"/>
            <a:ext cx="44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秋天，要给大家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写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用叶子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信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风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邮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170"/>
          <p:cNvSpPr/>
          <p:nvPr/>
        </p:nvSpPr>
        <p:spPr>
          <a:xfrm>
            <a:off x="810360" y="842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秋天的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171"/>
          <p:cNvSpPr/>
          <p:nvPr/>
        </p:nvSpPr>
        <p:spPr>
          <a:xfrm>
            <a:off x="3119400" y="3070080"/>
            <a:ext cx="57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有的信，落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松鼠头顶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有的信，掉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青蛙身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赶路的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衔到了一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回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池塘里，草丛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到处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都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秋天的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物们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急忙准备过冬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172"/>
          <p:cNvSpPr/>
          <p:nvPr/>
        </p:nvSpPr>
        <p:spPr>
          <a:xfrm>
            <a:off x="3066840" y="40464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林武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173"/>
          <p:cNvSpPr/>
          <p:nvPr/>
        </p:nvSpPr>
        <p:spPr>
          <a:xfrm>
            <a:off x="5003640" y="861840"/>
            <a:ext cx="358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偷懒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邮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个地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就把信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7174" descr="8063-12021310360770"/>
          <p:cNvPicPr/>
          <p:nvPr/>
        </p:nvPicPr>
        <p:blipFill>
          <a:blip r:embed="rId1"/>
          <a:stretch/>
        </p:blipFill>
        <p:spPr>
          <a:xfrm>
            <a:off x="0" y="3357720"/>
            <a:ext cx="2629080" cy="3427200"/>
          </a:xfrm>
          <a:prstGeom prst="rect">
            <a:avLst/>
          </a:prstGeom>
          <a:ln w="0">
            <a:noFill/>
          </a:ln>
        </p:spPr>
      </p:pic>
      <p:pic>
        <p:nvPicPr>
          <p:cNvPr id="199" name="Richard Clayderman(理查德 克莱德曼)-冬季恋歌.mp3" descr="Richard Clayderman(理查德 克莱德曼)-冬季恋歌"/>
          <p:cNvPicPr/>
          <p:nvPr/>
        </p:nvPicPr>
        <p:blipFill>
          <a:blip r:embed="rId2"/>
          <a:stretch/>
        </p:blipFill>
        <p:spPr>
          <a:xfrm>
            <a:off x="8575560" y="6413400"/>
            <a:ext cx="304920" cy="322200"/>
          </a:xfrm>
          <a:prstGeom prst="rect">
            <a:avLst/>
          </a:prstGeom>
          <a:ln w="0">
            <a:noFill/>
          </a:ln>
        </p:spPr>
      </p:pic>
      <p:sp>
        <p:nvSpPr>
          <p:cNvPr id="200" name="矩形 7176">
            <a:hlinkClick r:id="rId3"/>
          </p:cNvPr>
          <p:cNvSpPr/>
          <p:nvPr/>
        </p:nvSpPr>
        <p:spPr>
          <a:xfrm>
            <a:off x="592560" y="3357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4f56"/>
                </a:solidFill>
                <a:latin typeface="Arial"/>
                <a:ea typeface="宋体"/>
              </a:rPr>
              <a:t>点此播放班班通视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99"/>
          <p:cNvSpPr/>
          <p:nvPr/>
        </p:nvSpPr>
        <p:spPr>
          <a:xfrm>
            <a:off x="4030560" y="2030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e4f56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8193" descr="1647545_163729041388_2"/>
          <p:cNvPicPr/>
          <p:nvPr/>
        </p:nvPicPr>
        <p:blipFill>
          <a:blip r:embed="rId1"/>
          <a:stretch/>
        </p:blipFill>
        <p:spPr>
          <a:xfrm>
            <a:off x="539640" y="762120"/>
            <a:ext cx="6000840" cy="428472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8194"/>
          <p:cNvSpPr/>
          <p:nvPr/>
        </p:nvSpPr>
        <p:spPr>
          <a:xfrm>
            <a:off x="6955560" y="544680"/>
            <a:ext cx="123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小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鸟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念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中宋"/>
                <a:ea typeface="华文中宋"/>
              </a:rPr>
              <a:t>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9217"/>
          <p:cNvSpPr/>
          <p:nvPr/>
        </p:nvSpPr>
        <p:spPr>
          <a:xfrm>
            <a:off x="1697400" y="20880"/>
            <a:ext cx="3437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教大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读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念一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跟着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念一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吹着，“稀稀沙沙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鸟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叫着，“叽叽喳喳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9218"/>
          <p:cNvSpPr/>
          <p:nvPr/>
        </p:nvSpPr>
        <p:spPr>
          <a:xfrm>
            <a:off x="1116000" y="3432240"/>
            <a:ext cx="122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  <a:ea typeface="新宋体"/>
              </a:rPr>
              <a:t>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9219"/>
          <p:cNvSpPr/>
          <p:nvPr/>
        </p:nvSpPr>
        <p:spPr>
          <a:xfrm>
            <a:off x="3665520" y="3433680"/>
            <a:ext cx="544680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老师说：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也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教小鸟念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仔细地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念着：“稀稀沙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叫着：“叽叽喳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每一个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笑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哈哈！小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念错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9220" descr="20081210152727522_2"/>
          <p:cNvPicPr/>
          <p:nvPr/>
        </p:nvPicPr>
        <p:blipFill>
          <a:blip r:embed="rId1"/>
          <a:stretch/>
        </p:blipFill>
        <p:spPr>
          <a:xfrm>
            <a:off x="6300720" y="0"/>
            <a:ext cx="2809800" cy="2127240"/>
          </a:xfrm>
          <a:prstGeom prst="rect">
            <a:avLst/>
          </a:prstGeom>
          <a:ln w="0">
            <a:noFill/>
          </a:ln>
        </p:spPr>
      </p:pic>
      <p:grpSp>
        <p:nvGrpSpPr>
          <p:cNvPr id="208" name="组合 9221"/>
          <p:cNvGrpSpPr/>
          <p:nvPr/>
        </p:nvGrpSpPr>
        <p:grpSpPr>
          <a:xfrm>
            <a:off x="34920" y="-25560"/>
            <a:ext cx="3452760" cy="6649200"/>
            <a:chOff x="34920" y="-25560"/>
            <a:chExt cx="3452760" cy="6649200"/>
          </a:xfrm>
        </p:grpSpPr>
        <p:sp>
          <p:nvSpPr>
            <p:cNvPr id="209" name="文本框 9222"/>
            <p:cNvSpPr/>
            <p:nvPr/>
          </p:nvSpPr>
          <p:spPr>
            <a:xfrm>
              <a:off x="2048400" y="3317040"/>
              <a:ext cx="143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老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9223"/>
            <p:cNvSpPr/>
            <p:nvPr/>
          </p:nvSpPr>
          <p:spPr>
            <a:xfrm>
              <a:off x="2872080" y="389232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9224"/>
            <p:cNvSpPr/>
            <p:nvPr/>
          </p:nvSpPr>
          <p:spPr>
            <a:xfrm>
              <a:off x="2872080" y="439632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男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9225"/>
            <p:cNvSpPr/>
            <p:nvPr/>
          </p:nvSpPr>
          <p:spPr>
            <a:xfrm>
              <a:off x="2809800" y="497196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女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9226"/>
            <p:cNvSpPr/>
            <p:nvPr/>
          </p:nvSpPr>
          <p:spPr>
            <a:xfrm>
              <a:off x="2901960" y="5432400"/>
              <a:ext cx="42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合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9227"/>
            <p:cNvSpPr/>
            <p:nvPr/>
          </p:nvSpPr>
          <p:spPr>
            <a:xfrm>
              <a:off x="186120" y="-25560"/>
              <a:ext cx="7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男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9228"/>
            <p:cNvSpPr/>
            <p:nvPr/>
          </p:nvSpPr>
          <p:spPr>
            <a:xfrm>
              <a:off x="34920" y="1780200"/>
              <a:ext cx="7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隶书"/>
                </a:rPr>
                <a:t>女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0241" descr="20071015141440239_2"/>
          <p:cNvPicPr/>
          <p:nvPr/>
        </p:nvPicPr>
        <p:blipFill>
          <a:blip r:embed="rId1"/>
          <a:stretch/>
        </p:blipFill>
        <p:spPr>
          <a:xfrm>
            <a:off x="108000" y="77760"/>
            <a:ext cx="6118200" cy="259092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10242"/>
          <p:cNvSpPr/>
          <p:nvPr/>
        </p:nvSpPr>
        <p:spPr>
          <a:xfrm>
            <a:off x="3792960" y="2946240"/>
            <a:ext cx="23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教大家读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念一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跟着念一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1265" descr="9687274_092809666000_2"/>
          <p:cNvPicPr/>
          <p:nvPr/>
        </p:nvPicPr>
        <p:blipFill>
          <a:blip r:embed="rId1"/>
          <a:stretch/>
        </p:blipFill>
        <p:spPr>
          <a:xfrm>
            <a:off x="109440" y="77760"/>
            <a:ext cx="4786560" cy="320040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11266"/>
          <p:cNvSpPr/>
          <p:nvPr/>
        </p:nvSpPr>
        <p:spPr>
          <a:xfrm>
            <a:off x="2884320" y="38116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吹着，“稀稀沙沙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，“叽叽喳喳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2289"/>
          <p:cNvSpPr/>
          <p:nvPr/>
        </p:nvSpPr>
        <p:spPr>
          <a:xfrm>
            <a:off x="3076560" y="492120"/>
            <a:ext cx="18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鸟 念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12290" descr="201565-120gz0464299"/>
          <p:cNvPicPr/>
          <p:nvPr/>
        </p:nvPicPr>
        <p:blipFill>
          <a:blip r:embed="rId1"/>
          <a:stretch/>
        </p:blipFill>
        <p:spPr>
          <a:xfrm>
            <a:off x="4429080" y="76320"/>
            <a:ext cx="4678560" cy="348120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12291"/>
          <p:cNvSpPr/>
          <p:nvPr/>
        </p:nvSpPr>
        <p:spPr>
          <a:xfrm>
            <a:off x="2036520" y="4041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老师说：风也在教小鸟念书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13313" descr="72-d83dk8adj (46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3276720"/>
            <a:ext cx="2392560" cy="353376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13314"/>
          <p:cNvSpPr/>
          <p:nvPr/>
        </p:nvSpPr>
        <p:spPr>
          <a:xfrm>
            <a:off x="1736640" y="154296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我们仔细地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念着：“稀稀沙沙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鸟叫着：“叽叽喳喳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4337" descr="4844293_143417057417_2"/>
          <p:cNvPicPr/>
          <p:nvPr/>
        </p:nvPicPr>
        <p:blipFill>
          <a:blip r:embed="rId1"/>
          <a:stretch/>
        </p:blipFill>
        <p:spPr>
          <a:xfrm>
            <a:off x="4068720" y="77760"/>
            <a:ext cx="4587840" cy="417204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4338"/>
          <p:cNvSpPr/>
          <p:nvPr/>
        </p:nvSpPr>
        <p:spPr>
          <a:xfrm>
            <a:off x="1167480" y="42498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每一个人都笑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哈哈！小鸟都念错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5361"/>
          <p:cNvSpPr/>
          <p:nvPr/>
        </p:nvSpPr>
        <p:spPr>
          <a:xfrm>
            <a:off x="1141920" y="287640"/>
            <a:ext cx="3167640" cy="286812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spAutoFit/>
          </a:bodyPr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 教大家读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老师念一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我们跟着念一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风吹着，“稀稀沙沙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，“叽叽喳喳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362"/>
          <p:cNvSpPr/>
          <p:nvPr/>
        </p:nvSpPr>
        <p:spPr>
          <a:xfrm>
            <a:off x="1116000" y="3432240"/>
            <a:ext cx="122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Arial"/>
                <a:ea typeface="新宋体"/>
              </a:rPr>
              <a:t>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5363"/>
          <p:cNvSpPr/>
          <p:nvPr/>
        </p:nvSpPr>
        <p:spPr>
          <a:xfrm>
            <a:off x="3132000" y="3278160"/>
            <a:ext cx="5273640" cy="321912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  <a:ea typeface="楷体_GB2312"/>
              </a:rPr>
              <a:t>老师说：风也在教小鸟念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我们仔细地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窗外的风念着：“稀稀沙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窗外的鸟叫着：“叽叽喳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每一个人都笑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楷体_GB2312"/>
              </a:rPr>
              <a:t>哈哈！小鸟都念错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15364" descr="20081210152727522_2"/>
          <p:cNvPicPr/>
          <p:nvPr/>
        </p:nvPicPr>
        <p:blipFill>
          <a:blip r:embed="rId1"/>
          <a:stretch/>
        </p:blipFill>
        <p:spPr>
          <a:xfrm>
            <a:off x="5364000" y="0"/>
            <a:ext cx="3726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2:56:04Z</dcterms:created>
  <dc:creator/>
  <dc:description/>
  <dc:language>en-US</dc:language>
  <cp:lastModifiedBy>啊啊</cp:lastModifiedBy>
  <dcterms:modified xsi:type="dcterms:W3CDTF">2017-06-24T15:04:35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